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601788" cy="16017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2160"/>
                <a:tab algn="l" pos="184320"/>
                <a:tab algn="l" pos="276120"/>
                <a:tab algn="l" pos="368280"/>
                <a:tab algn="l" pos="460440"/>
                <a:tab algn="l" pos="552600"/>
                <a:tab algn="l" pos="644400"/>
                <a:tab algn="l" pos="736560"/>
                <a:tab algn="l" pos="828720"/>
                <a:tab algn="l" pos="920880"/>
                <a:tab algn="l" pos="1012680"/>
                <a:tab algn="l" pos="1104840"/>
                <a:tab algn="l" pos="1197000"/>
                <a:tab algn="l" pos="1289160"/>
                <a:tab algn="l" pos="1380960"/>
                <a:tab algn="l" pos="1473120"/>
                <a:tab algn="l" pos="1565280"/>
                <a:tab algn="l" pos="1657440"/>
                <a:tab algn="l" pos="1749600"/>
                <a:tab algn="l" pos="1841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714320" y="685440"/>
            <a:ext cx="3429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2160"/>
                <a:tab algn="l" pos="184320"/>
                <a:tab algn="l" pos="276120"/>
                <a:tab algn="l" pos="368280"/>
                <a:tab algn="l" pos="460440"/>
                <a:tab algn="l" pos="552600"/>
                <a:tab algn="l" pos="644400"/>
                <a:tab algn="l" pos="736560"/>
                <a:tab algn="l" pos="828720"/>
                <a:tab algn="l" pos="920880"/>
                <a:tab algn="l" pos="1012680"/>
                <a:tab algn="l" pos="1104840"/>
                <a:tab algn="l" pos="1197000"/>
                <a:tab algn="l" pos="1289160"/>
                <a:tab algn="l" pos="1380960"/>
                <a:tab algn="l" pos="1473120"/>
                <a:tab algn="l" pos="1565280"/>
                <a:tab algn="l" pos="1657440"/>
                <a:tab algn="l" pos="1749600"/>
                <a:tab algn="l" pos="1841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136440"/>
                <a:tab algn="l" pos="272880"/>
                <a:tab algn="l" pos="409680"/>
                <a:tab algn="l" pos="546120"/>
                <a:tab algn="l" pos="682560"/>
                <a:tab algn="l" pos="819000"/>
                <a:tab algn="l" pos="955800"/>
                <a:tab algn="l" pos="1092240"/>
                <a:tab algn="l" pos="1228680"/>
                <a:tab algn="l" pos="1365120"/>
                <a:tab algn="l" pos="1501920"/>
                <a:tab algn="l" pos="1638360"/>
                <a:tab algn="l" pos="1774800"/>
                <a:tab algn="l" pos="1911240"/>
                <a:tab algn="l" pos="2048040"/>
                <a:tab algn="l" pos="2184480"/>
                <a:tab algn="l" pos="2320920"/>
                <a:tab algn="l" pos="2457360"/>
                <a:tab algn="l" pos="2593800"/>
                <a:tab algn="l" pos="27306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2160"/>
                <a:tab algn="l" pos="184320"/>
                <a:tab algn="l" pos="276120"/>
                <a:tab algn="l" pos="368280"/>
                <a:tab algn="l" pos="460440"/>
                <a:tab algn="l" pos="552600"/>
                <a:tab algn="l" pos="644400"/>
                <a:tab algn="l" pos="736560"/>
                <a:tab algn="l" pos="828720"/>
                <a:tab algn="l" pos="920880"/>
                <a:tab algn="l" pos="1012680"/>
                <a:tab algn="l" pos="1104840"/>
                <a:tab algn="l" pos="1197000"/>
                <a:tab algn="l" pos="1289160"/>
                <a:tab algn="l" pos="1380960"/>
                <a:tab algn="l" pos="1473120"/>
                <a:tab algn="l" pos="1565280"/>
                <a:tab algn="l" pos="1657440"/>
                <a:tab algn="l" pos="1749600"/>
                <a:tab algn="l" pos="1841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fld id="{E952B183-9CA3-4AC6-B8BF-D3392911A0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136440"/>
                <a:tab algn="l" pos="272880"/>
                <a:tab algn="l" pos="409680"/>
                <a:tab algn="l" pos="546120"/>
                <a:tab algn="l" pos="682560"/>
                <a:tab algn="l" pos="819000"/>
                <a:tab algn="l" pos="955800"/>
                <a:tab algn="l" pos="1092240"/>
                <a:tab algn="l" pos="1228680"/>
                <a:tab algn="l" pos="1365120"/>
                <a:tab algn="l" pos="1501920"/>
                <a:tab algn="l" pos="1638360"/>
                <a:tab algn="l" pos="1774800"/>
                <a:tab algn="l" pos="1911240"/>
                <a:tab algn="l" pos="2048040"/>
                <a:tab algn="l" pos="2184480"/>
                <a:tab algn="l" pos="2320920"/>
                <a:tab algn="l" pos="2457360"/>
                <a:tab algn="l" pos="2593800"/>
                <a:tab algn="l" pos="27306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fld id="{167FA66A-90F5-4B65-961D-17DDCCE8C2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ECF4-6D6A-41C2-8A90-39B535C01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1441800" cy="2685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9360" bIns="9360" anchor="ctr">
            <a:noAutofit/>
          </a:bodyPr>
          <a:p>
            <a:pPr indent="0" algn="ctr">
              <a:buNone/>
              <a:tabLst>
                <a:tab algn="l" pos="0"/>
                <a:tab algn="l" pos="92160"/>
                <a:tab algn="l" pos="184320"/>
                <a:tab algn="l" pos="276120"/>
                <a:tab algn="l" pos="368280"/>
                <a:tab algn="l" pos="460440"/>
                <a:tab algn="l" pos="552600"/>
                <a:tab algn="l" pos="644400"/>
                <a:tab algn="l" pos="736560"/>
                <a:tab algn="l" pos="828720"/>
                <a:tab algn="l" pos="920880"/>
                <a:tab algn="l" pos="1012680"/>
                <a:tab algn="l" pos="1104840"/>
                <a:tab algn="l" pos="1197000"/>
                <a:tab algn="l" pos="1289160"/>
                <a:tab algn="l" pos="1380960"/>
                <a:tab algn="l" pos="1473120"/>
                <a:tab algn="l" pos="1565280"/>
                <a:tab algn="l" pos="1657440"/>
                <a:tab algn="l" pos="1749600"/>
                <a:tab algn="l" pos="1841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840" y="372600"/>
            <a:ext cx="1441800" cy="504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9360" bIns="936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2160"/>
                <a:tab algn="l" pos="184320"/>
                <a:tab algn="l" pos="276120"/>
                <a:tab algn="l" pos="368280"/>
                <a:tab algn="l" pos="460440"/>
                <a:tab algn="l" pos="552600"/>
                <a:tab algn="l" pos="644400"/>
                <a:tab algn="l" pos="736560"/>
                <a:tab algn="l" pos="828720"/>
                <a:tab algn="l" pos="920880"/>
                <a:tab algn="l" pos="1012680"/>
                <a:tab algn="l" pos="1104840"/>
                <a:tab algn="l" pos="1197000"/>
                <a:tab algn="l" pos="1289160"/>
                <a:tab algn="l" pos="1380960"/>
                <a:tab algn="l" pos="1473120"/>
                <a:tab algn="l" pos="1565280"/>
                <a:tab algn="l" pos="1657440"/>
                <a:tab algn="l" pos="1749600"/>
                <a:tab algn="l" pos="1841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8840" y="924840"/>
            <a:ext cx="1441800" cy="504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9360" bIns="936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2160"/>
                <a:tab algn="l" pos="184320"/>
                <a:tab algn="l" pos="276120"/>
                <a:tab algn="l" pos="368280"/>
                <a:tab algn="l" pos="460440"/>
                <a:tab algn="l" pos="552600"/>
                <a:tab algn="l" pos="644400"/>
                <a:tab algn="l" pos="736560"/>
                <a:tab algn="l" pos="828720"/>
                <a:tab algn="l" pos="920880"/>
                <a:tab algn="l" pos="1012680"/>
                <a:tab algn="l" pos="1104840"/>
                <a:tab algn="l" pos="1197000"/>
                <a:tab algn="l" pos="1289160"/>
                <a:tab algn="l" pos="1380960"/>
                <a:tab algn="l" pos="1473120"/>
                <a:tab algn="l" pos="1565280"/>
                <a:tab algn="l" pos="1657440"/>
                <a:tab algn="l" pos="1749600"/>
                <a:tab algn="l" pos="1841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C5DA-C3A6-42F4-8AAB-6DF7C204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1441800" cy="2685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9360" bIns="9360" anchor="ctr">
            <a:noAutofit/>
          </a:bodyPr>
          <a:p>
            <a:pPr indent="0" algn="ctr">
              <a:buNone/>
              <a:tabLst>
                <a:tab algn="l" pos="0"/>
                <a:tab algn="l" pos="92160"/>
                <a:tab algn="l" pos="184320"/>
                <a:tab algn="l" pos="276120"/>
                <a:tab algn="l" pos="368280"/>
                <a:tab algn="l" pos="460440"/>
                <a:tab algn="l" pos="552600"/>
                <a:tab algn="l" pos="644400"/>
                <a:tab algn="l" pos="736560"/>
                <a:tab algn="l" pos="828720"/>
                <a:tab algn="l" pos="920880"/>
                <a:tab algn="l" pos="1012680"/>
                <a:tab algn="l" pos="1104840"/>
                <a:tab algn="l" pos="1197000"/>
                <a:tab algn="l" pos="1289160"/>
                <a:tab algn="l" pos="1380960"/>
                <a:tab algn="l" pos="1473120"/>
                <a:tab algn="l" pos="1565280"/>
                <a:tab algn="l" pos="1657440"/>
                <a:tab algn="l" pos="1749600"/>
                <a:tab algn="l" pos="1841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8840" y="372600"/>
            <a:ext cx="703440" cy="504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9360" bIns="936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2160"/>
                <a:tab algn="l" pos="184320"/>
                <a:tab algn="l" pos="276120"/>
                <a:tab algn="l" pos="368280"/>
                <a:tab algn="l" pos="460440"/>
                <a:tab algn="l" pos="552600"/>
                <a:tab algn="l" pos="644400"/>
                <a:tab algn="l" pos="736560"/>
                <a:tab algn="l" pos="828720"/>
                <a:tab algn="l" pos="920880"/>
                <a:tab algn="l" pos="1012680"/>
                <a:tab algn="l" pos="1104840"/>
                <a:tab algn="l" pos="1197000"/>
                <a:tab algn="l" pos="1289160"/>
                <a:tab algn="l" pos="1380960"/>
                <a:tab algn="l" pos="1473120"/>
                <a:tab algn="l" pos="1565280"/>
                <a:tab algn="l" pos="1657440"/>
                <a:tab algn="l" pos="1749600"/>
                <a:tab algn="l" pos="1841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7920" y="372600"/>
            <a:ext cx="703440" cy="504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9360" bIns="936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2160"/>
                <a:tab algn="l" pos="184320"/>
                <a:tab algn="l" pos="276120"/>
                <a:tab algn="l" pos="368280"/>
                <a:tab algn="l" pos="460440"/>
                <a:tab algn="l" pos="552600"/>
                <a:tab algn="l" pos="644400"/>
                <a:tab algn="l" pos="736560"/>
                <a:tab algn="l" pos="828720"/>
                <a:tab algn="l" pos="920880"/>
                <a:tab algn="l" pos="1012680"/>
                <a:tab algn="l" pos="1104840"/>
                <a:tab algn="l" pos="1197000"/>
                <a:tab algn="l" pos="1289160"/>
                <a:tab algn="l" pos="1380960"/>
                <a:tab algn="l" pos="1473120"/>
                <a:tab algn="l" pos="1565280"/>
                <a:tab algn="l" pos="1657440"/>
                <a:tab algn="l" pos="1749600"/>
                <a:tab algn="l" pos="1841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8840" y="924840"/>
            <a:ext cx="703440" cy="504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9360" bIns="936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2160"/>
                <a:tab algn="l" pos="184320"/>
                <a:tab algn="l" pos="276120"/>
                <a:tab algn="l" pos="368280"/>
                <a:tab algn="l" pos="460440"/>
                <a:tab algn="l" pos="552600"/>
                <a:tab algn="l" pos="644400"/>
                <a:tab algn="l" pos="736560"/>
                <a:tab algn="l" pos="828720"/>
                <a:tab algn="l" pos="920880"/>
                <a:tab algn="l" pos="1012680"/>
                <a:tab algn="l" pos="1104840"/>
                <a:tab algn="l" pos="1197000"/>
                <a:tab algn="l" pos="1289160"/>
                <a:tab algn="l" pos="1380960"/>
                <a:tab algn="l" pos="1473120"/>
                <a:tab algn="l" pos="1565280"/>
                <a:tab algn="l" pos="1657440"/>
                <a:tab algn="l" pos="1749600"/>
                <a:tab algn="l" pos="1841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7920" y="924840"/>
            <a:ext cx="703440" cy="504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9360" bIns="936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2160"/>
                <a:tab algn="l" pos="184320"/>
                <a:tab algn="l" pos="276120"/>
                <a:tab algn="l" pos="368280"/>
                <a:tab algn="l" pos="460440"/>
                <a:tab algn="l" pos="552600"/>
                <a:tab algn="l" pos="644400"/>
                <a:tab algn="l" pos="736560"/>
                <a:tab algn="l" pos="828720"/>
                <a:tab algn="l" pos="920880"/>
                <a:tab algn="l" pos="1012680"/>
                <a:tab algn="l" pos="1104840"/>
                <a:tab algn="l" pos="1197000"/>
                <a:tab algn="l" pos="1289160"/>
                <a:tab algn="l" pos="1380960"/>
                <a:tab algn="l" pos="1473120"/>
                <a:tab algn="l" pos="1565280"/>
                <a:tab algn="l" pos="1657440"/>
                <a:tab algn="l" pos="1749600"/>
                <a:tab algn="l" pos="1841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AC46-AE85-45DB-9C13-5112F15B7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1441800" cy="2685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9360" bIns="9360" anchor="ctr">
            <a:noAutofit/>
          </a:bodyPr>
          <a:p>
            <a:pPr indent="0" algn="ctr">
              <a:buNone/>
              <a:tabLst>
                <a:tab algn="l" pos="0"/>
                <a:tab algn="l" pos="92160"/>
                <a:tab algn="l" pos="184320"/>
                <a:tab algn="l" pos="276120"/>
                <a:tab algn="l" pos="368280"/>
                <a:tab algn="l" pos="460440"/>
                <a:tab algn="l" pos="552600"/>
                <a:tab algn="l" pos="644400"/>
                <a:tab algn="l" pos="736560"/>
                <a:tab algn="l" pos="828720"/>
                <a:tab algn="l" pos="920880"/>
                <a:tab algn="l" pos="1012680"/>
                <a:tab algn="l" pos="1104840"/>
                <a:tab algn="l" pos="1197000"/>
                <a:tab algn="l" pos="1289160"/>
                <a:tab algn="l" pos="1380960"/>
                <a:tab algn="l" pos="1473120"/>
                <a:tab algn="l" pos="1565280"/>
                <a:tab algn="l" pos="1657440"/>
                <a:tab algn="l" pos="1749600"/>
                <a:tab algn="l" pos="1841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8840" y="372600"/>
            <a:ext cx="464040" cy="504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9360" bIns="936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2160"/>
                <a:tab algn="l" pos="184320"/>
                <a:tab algn="l" pos="276120"/>
                <a:tab algn="l" pos="368280"/>
                <a:tab algn="l" pos="460440"/>
                <a:tab algn="l" pos="552600"/>
                <a:tab algn="l" pos="644400"/>
                <a:tab algn="l" pos="736560"/>
                <a:tab algn="l" pos="828720"/>
                <a:tab algn="l" pos="920880"/>
                <a:tab algn="l" pos="1012680"/>
                <a:tab algn="l" pos="1104840"/>
                <a:tab algn="l" pos="1197000"/>
                <a:tab algn="l" pos="1289160"/>
                <a:tab algn="l" pos="1380960"/>
                <a:tab algn="l" pos="1473120"/>
                <a:tab algn="l" pos="1565280"/>
                <a:tab algn="l" pos="1657440"/>
                <a:tab algn="l" pos="1749600"/>
                <a:tab algn="l" pos="1841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6640" y="372600"/>
            <a:ext cx="464040" cy="504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9360" bIns="936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2160"/>
                <a:tab algn="l" pos="184320"/>
                <a:tab algn="l" pos="276120"/>
                <a:tab algn="l" pos="368280"/>
                <a:tab algn="l" pos="460440"/>
                <a:tab algn="l" pos="552600"/>
                <a:tab algn="l" pos="644400"/>
                <a:tab algn="l" pos="736560"/>
                <a:tab algn="l" pos="828720"/>
                <a:tab algn="l" pos="920880"/>
                <a:tab algn="l" pos="1012680"/>
                <a:tab algn="l" pos="1104840"/>
                <a:tab algn="l" pos="1197000"/>
                <a:tab algn="l" pos="1289160"/>
                <a:tab algn="l" pos="1380960"/>
                <a:tab algn="l" pos="1473120"/>
                <a:tab algn="l" pos="1565280"/>
                <a:tab algn="l" pos="1657440"/>
                <a:tab algn="l" pos="1749600"/>
                <a:tab algn="l" pos="1841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54080" y="372600"/>
            <a:ext cx="464040" cy="504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9360" bIns="936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2160"/>
                <a:tab algn="l" pos="184320"/>
                <a:tab algn="l" pos="276120"/>
                <a:tab algn="l" pos="368280"/>
                <a:tab algn="l" pos="460440"/>
                <a:tab algn="l" pos="552600"/>
                <a:tab algn="l" pos="644400"/>
                <a:tab algn="l" pos="736560"/>
                <a:tab algn="l" pos="828720"/>
                <a:tab algn="l" pos="920880"/>
                <a:tab algn="l" pos="1012680"/>
                <a:tab algn="l" pos="1104840"/>
                <a:tab algn="l" pos="1197000"/>
                <a:tab algn="l" pos="1289160"/>
                <a:tab algn="l" pos="1380960"/>
                <a:tab algn="l" pos="1473120"/>
                <a:tab algn="l" pos="1565280"/>
                <a:tab algn="l" pos="1657440"/>
                <a:tab algn="l" pos="1749600"/>
                <a:tab algn="l" pos="1841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8840" y="924840"/>
            <a:ext cx="464040" cy="504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9360" bIns="936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2160"/>
                <a:tab algn="l" pos="184320"/>
                <a:tab algn="l" pos="276120"/>
                <a:tab algn="l" pos="368280"/>
                <a:tab algn="l" pos="460440"/>
                <a:tab algn="l" pos="552600"/>
                <a:tab algn="l" pos="644400"/>
                <a:tab algn="l" pos="736560"/>
                <a:tab algn="l" pos="828720"/>
                <a:tab algn="l" pos="920880"/>
                <a:tab algn="l" pos="1012680"/>
                <a:tab algn="l" pos="1104840"/>
                <a:tab algn="l" pos="1197000"/>
                <a:tab algn="l" pos="1289160"/>
                <a:tab algn="l" pos="1380960"/>
                <a:tab algn="l" pos="1473120"/>
                <a:tab algn="l" pos="1565280"/>
                <a:tab algn="l" pos="1657440"/>
                <a:tab algn="l" pos="1749600"/>
                <a:tab algn="l" pos="1841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66640" y="924840"/>
            <a:ext cx="464040" cy="504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9360" bIns="936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2160"/>
                <a:tab algn="l" pos="184320"/>
                <a:tab algn="l" pos="276120"/>
                <a:tab algn="l" pos="368280"/>
                <a:tab algn="l" pos="460440"/>
                <a:tab algn="l" pos="552600"/>
                <a:tab algn="l" pos="644400"/>
                <a:tab algn="l" pos="736560"/>
                <a:tab algn="l" pos="828720"/>
                <a:tab algn="l" pos="920880"/>
                <a:tab algn="l" pos="1012680"/>
                <a:tab algn="l" pos="1104840"/>
                <a:tab algn="l" pos="1197000"/>
                <a:tab algn="l" pos="1289160"/>
                <a:tab algn="l" pos="1380960"/>
                <a:tab algn="l" pos="1473120"/>
                <a:tab algn="l" pos="1565280"/>
                <a:tab algn="l" pos="1657440"/>
                <a:tab algn="l" pos="1749600"/>
                <a:tab algn="l" pos="1841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54080" y="924840"/>
            <a:ext cx="464040" cy="504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9360" bIns="936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2160"/>
                <a:tab algn="l" pos="184320"/>
                <a:tab algn="l" pos="276120"/>
                <a:tab algn="l" pos="368280"/>
                <a:tab algn="l" pos="460440"/>
                <a:tab algn="l" pos="552600"/>
                <a:tab algn="l" pos="644400"/>
                <a:tab algn="l" pos="736560"/>
                <a:tab algn="l" pos="828720"/>
                <a:tab algn="l" pos="920880"/>
                <a:tab algn="l" pos="1012680"/>
                <a:tab algn="l" pos="1104840"/>
                <a:tab algn="l" pos="1197000"/>
                <a:tab algn="l" pos="1289160"/>
                <a:tab algn="l" pos="1380960"/>
                <a:tab algn="l" pos="1473120"/>
                <a:tab algn="l" pos="1565280"/>
                <a:tab algn="l" pos="1657440"/>
                <a:tab algn="l" pos="1749600"/>
                <a:tab algn="l" pos="1841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AE7C-3FB5-4781-A3C9-542123DE5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1441800" cy="2685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9360" bIns="9360" anchor="ctr">
            <a:noAutofit/>
          </a:bodyPr>
          <a:p>
            <a:pPr indent="0" algn="ctr">
              <a:buNone/>
              <a:tabLst>
                <a:tab algn="l" pos="0"/>
                <a:tab algn="l" pos="92160"/>
                <a:tab algn="l" pos="184320"/>
                <a:tab algn="l" pos="276120"/>
                <a:tab algn="l" pos="368280"/>
                <a:tab algn="l" pos="460440"/>
                <a:tab algn="l" pos="552600"/>
                <a:tab algn="l" pos="644400"/>
                <a:tab algn="l" pos="736560"/>
                <a:tab algn="l" pos="828720"/>
                <a:tab algn="l" pos="920880"/>
                <a:tab algn="l" pos="1012680"/>
                <a:tab algn="l" pos="1104840"/>
                <a:tab algn="l" pos="1197000"/>
                <a:tab algn="l" pos="1289160"/>
                <a:tab algn="l" pos="1380960"/>
                <a:tab algn="l" pos="1473120"/>
                <a:tab algn="l" pos="1565280"/>
                <a:tab algn="l" pos="1657440"/>
                <a:tab algn="l" pos="1749600"/>
                <a:tab algn="l" pos="1841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8840" y="372600"/>
            <a:ext cx="144180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"/>
              </a:spcBef>
              <a:buNone/>
              <a:tabLst>
                <a:tab algn="l" pos="0"/>
                <a:tab algn="l" pos="92160"/>
                <a:tab algn="l" pos="184320"/>
                <a:tab algn="l" pos="276120"/>
                <a:tab algn="l" pos="368280"/>
                <a:tab algn="l" pos="460440"/>
                <a:tab algn="l" pos="552600"/>
                <a:tab algn="l" pos="644400"/>
                <a:tab algn="l" pos="736560"/>
                <a:tab algn="l" pos="828720"/>
                <a:tab algn="l" pos="920880"/>
                <a:tab algn="l" pos="1012680"/>
                <a:tab algn="l" pos="1104840"/>
                <a:tab algn="l" pos="1197000"/>
                <a:tab algn="l" pos="1289160"/>
                <a:tab algn="l" pos="1380960"/>
                <a:tab algn="l" pos="1473120"/>
                <a:tab algn="l" pos="1565280"/>
                <a:tab algn="l" pos="1657440"/>
                <a:tab algn="l" pos="1749600"/>
                <a:tab algn="l" pos="1841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8FB0-3946-4E18-B4A7-9D28FBBD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1441800" cy="2685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9360" bIns="9360" anchor="ctr">
            <a:noAutofit/>
          </a:bodyPr>
          <a:p>
            <a:pPr indent="0" algn="ctr">
              <a:buNone/>
              <a:tabLst>
                <a:tab algn="l" pos="0"/>
                <a:tab algn="l" pos="92160"/>
                <a:tab algn="l" pos="184320"/>
                <a:tab algn="l" pos="276120"/>
                <a:tab algn="l" pos="368280"/>
                <a:tab algn="l" pos="460440"/>
                <a:tab algn="l" pos="552600"/>
                <a:tab algn="l" pos="644400"/>
                <a:tab algn="l" pos="736560"/>
                <a:tab algn="l" pos="828720"/>
                <a:tab algn="l" pos="920880"/>
                <a:tab algn="l" pos="1012680"/>
                <a:tab algn="l" pos="1104840"/>
                <a:tab algn="l" pos="1197000"/>
                <a:tab algn="l" pos="1289160"/>
                <a:tab algn="l" pos="1380960"/>
                <a:tab algn="l" pos="1473120"/>
                <a:tab algn="l" pos="1565280"/>
                <a:tab algn="l" pos="1657440"/>
                <a:tab algn="l" pos="1749600"/>
                <a:tab algn="l" pos="1841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8840" y="372600"/>
            <a:ext cx="1441800" cy="105732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9360" bIns="936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2160"/>
                <a:tab algn="l" pos="184320"/>
                <a:tab algn="l" pos="276120"/>
                <a:tab algn="l" pos="368280"/>
                <a:tab algn="l" pos="460440"/>
                <a:tab algn="l" pos="552600"/>
                <a:tab algn="l" pos="644400"/>
                <a:tab algn="l" pos="736560"/>
                <a:tab algn="l" pos="828720"/>
                <a:tab algn="l" pos="920880"/>
                <a:tab algn="l" pos="1012680"/>
                <a:tab algn="l" pos="1104840"/>
                <a:tab algn="l" pos="1197000"/>
                <a:tab algn="l" pos="1289160"/>
                <a:tab algn="l" pos="1380960"/>
                <a:tab algn="l" pos="1473120"/>
                <a:tab algn="l" pos="1565280"/>
                <a:tab algn="l" pos="1657440"/>
                <a:tab algn="l" pos="1749600"/>
                <a:tab algn="l" pos="1841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1384-6837-4DE3-B0F9-E08FFD5D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1441800" cy="2685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9360" bIns="9360" anchor="ctr">
            <a:noAutofit/>
          </a:bodyPr>
          <a:p>
            <a:pPr indent="0" algn="ctr">
              <a:buNone/>
              <a:tabLst>
                <a:tab algn="l" pos="0"/>
                <a:tab algn="l" pos="92160"/>
                <a:tab algn="l" pos="184320"/>
                <a:tab algn="l" pos="276120"/>
                <a:tab algn="l" pos="368280"/>
                <a:tab algn="l" pos="460440"/>
                <a:tab algn="l" pos="552600"/>
                <a:tab algn="l" pos="644400"/>
                <a:tab algn="l" pos="736560"/>
                <a:tab algn="l" pos="828720"/>
                <a:tab algn="l" pos="920880"/>
                <a:tab algn="l" pos="1012680"/>
                <a:tab algn="l" pos="1104840"/>
                <a:tab algn="l" pos="1197000"/>
                <a:tab algn="l" pos="1289160"/>
                <a:tab algn="l" pos="1380960"/>
                <a:tab algn="l" pos="1473120"/>
                <a:tab algn="l" pos="1565280"/>
                <a:tab algn="l" pos="1657440"/>
                <a:tab algn="l" pos="1749600"/>
                <a:tab algn="l" pos="1841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8840" y="372600"/>
            <a:ext cx="703440" cy="105732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9360" bIns="936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2160"/>
                <a:tab algn="l" pos="184320"/>
                <a:tab algn="l" pos="276120"/>
                <a:tab algn="l" pos="368280"/>
                <a:tab algn="l" pos="460440"/>
                <a:tab algn="l" pos="552600"/>
                <a:tab algn="l" pos="644400"/>
                <a:tab algn="l" pos="736560"/>
                <a:tab algn="l" pos="828720"/>
                <a:tab algn="l" pos="920880"/>
                <a:tab algn="l" pos="1012680"/>
                <a:tab algn="l" pos="1104840"/>
                <a:tab algn="l" pos="1197000"/>
                <a:tab algn="l" pos="1289160"/>
                <a:tab algn="l" pos="1380960"/>
                <a:tab algn="l" pos="1473120"/>
                <a:tab algn="l" pos="1565280"/>
                <a:tab algn="l" pos="1657440"/>
                <a:tab algn="l" pos="1749600"/>
                <a:tab algn="l" pos="1841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7920" y="372600"/>
            <a:ext cx="703440" cy="105732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9360" bIns="936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2160"/>
                <a:tab algn="l" pos="184320"/>
                <a:tab algn="l" pos="276120"/>
                <a:tab algn="l" pos="368280"/>
                <a:tab algn="l" pos="460440"/>
                <a:tab algn="l" pos="552600"/>
                <a:tab algn="l" pos="644400"/>
                <a:tab algn="l" pos="736560"/>
                <a:tab algn="l" pos="828720"/>
                <a:tab algn="l" pos="920880"/>
                <a:tab algn="l" pos="1012680"/>
                <a:tab algn="l" pos="1104840"/>
                <a:tab algn="l" pos="1197000"/>
                <a:tab algn="l" pos="1289160"/>
                <a:tab algn="l" pos="1380960"/>
                <a:tab algn="l" pos="1473120"/>
                <a:tab algn="l" pos="1565280"/>
                <a:tab algn="l" pos="1657440"/>
                <a:tab algn="l" pos="1749600"/>
                <a:tab algn="l" pos="1841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6B75-0AFC-4316-9C82-67FB4127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1441800" cy="2685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9360" bIns="9360" anchor="ctr">
            <a:noAutofit/>
          </a:bodyPr>
          <a:p>
            <a:pPr indent="0" algn="ctr">
              <a:buNone/>
              <a:tabLst>
                <a:tab algn="l" pos="0"/>
                <a:tab algn="l" pos="92160"/>
                <a:tab algn="l" pos="184320"/>
                <a:tab algn="l" pos="276120"/>
                <a:tab algn="l" pos="368280"/>
                <a:tab algn="l" pos="460440"/>
                <a:tab algn="l" pos="552600"/>
                <a:tab algn="l" pos="644400"/>
                <a:tab algn="l" pos="736560"/>
                <a:tab algn="l" pos="828720"/>
                <a:tab algn="l" pos="920880"/>
                <a:tab algn="l" pos="1012680"/>
                <a:tab algn="l" pos="1104840"/>
                <a:tab algn="l" pos="1197000"/>
                <a:tab algn="l" pos="1289160"/>
                <a:tab algn="l" pos="1380960"/>
                <a:tab algn="l" pos="1473120"/>
                <a:tab algn="l" pos="1565280"/>
                <a:tab algn="l" pos="1657440"/>
                <a:tab algn="l" pos="1749600"/>
                <a:tab algn="l" pos="1841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DFD2-E085-4D9E-92BC-02AD010B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8840" y="63360"/>
            <a:ext cx="14418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"/>
              </a:spcBef>
              <a:tabLst>
                <a:tab algn="l" pos="0"/>
                <a:tab algn="l" pos="92160"/>
                <a:tab algn="l" pos="184320"/>
                <a:tab algn="l" pos="276120"/>
                <a:tab algn="l" pos="368280"/>
                <a:tab algn="l" pos="460440"/>
                <a:tab algn="l" pos="552600"/>
                <a:tab algn="l" pos="644400"/>
                <a:tab algn="l" pos="736560"/>
                <a:tab algn="l" pos="828720"/>
                <a:tab algn="l" pos="920880"/>
                <a:tab algn="l" pos="1012680"/>
                <a:tab algn="l" pos="1104840"/>
                <a:tab algn="l" pos="1197000"/>
                <a:tab algn="l" pos="1289160"/>
                <a:tab algn="l" pos="1380960"/>
                <a:tab algn="l" pos="1473120"/>
                <a:tab algn="l" pos="1565280"/>
                <a:tab algn="l" pos="1657440"/>
                <a:tab algn="l" pos="1749600"/>
                <a:tab algn="l" pos="1841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E5D4-10D6-4F06-A719-E904EC27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1441800" cy="2685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9360" bIns="9360" anchor="ctr">
            <a:noAutofit/>
          </a:bodyPr>
          <a:p>
            <a:pPr indent="0" algn="ctr">
              <a:buNone/>
              <a:tabLst>
                <a:tab algn="l" pos="0"/>
                <a:tab algn="l" pos="92160"/>
                <a:tab algn="l" pos="184320"/>
                <a:tab algn="l" pos="276120"/>
                <a:tab algn="l" pos="368280"/>
                <a:tab algn="l" pos="460440"/>
                <a:tab algn="l" pos="552600"/>
                <a:tab algn="l" pos="644400"/>
                <a:tab algn="l" pos="736560"/>
                <a:tab algn="l" pos="828720"/>
                <a:tab algn="l" pos="920880"/>
                <a:tab algn="l" pos="1012680"/>
                <a:tab algn="l" pos="1104840"/>
                <a:tab algn="l" pos="1197000"/>
                <a:tab algn="l" pos="1289160"/>
                <a:tab algn="l" pos="1380960"/>
                <a:tab algn="l" pos="1473120"/>
                <a:tab algn="l" pos="1565280"/>
                <a:tab algn="l" pos="1657440"/>
                <a:tab algn="l" pos="1749600"/>
                <a:tab algn="l" pos="1841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8840" y="372600"/>
            <a:ext cx="703440" cy="504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9360" bIns="936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2160"/>
                <a:tab algn="l" pos="184320"/>
                <a:tab algn="l" pos="276120"/>
                <a:tab algn="l" pos="368280"/>
                <a:tab algn="l" pos="460440"/>
                <a:tab algn="l" pos="552600"/>
                <a:tab algn="l" pos="644400"/>
                <a:tab algn="l" pos="736560"/>
                <a:tab algn="l" pos="828720"/>
                <a:tab algn="l" pos="920880"/>
                <a:tab algn="l" pos="1012680"/>
                <a:tab algn="l" pos="1104840"/>
                <a:tab algn="l" pos="1197000"/>
                <a:tab algn="l" pos="1289160"/>
                <a:tab algn="l" pos="1380960"/>
                <a:tab algn="l" pos="1473120"/>
                <a:tab algn="l" pos="1565280"/>
                <a:tab algn="l" pos="1657440"/>
                <a:tab algn="l" pos="1749600"/>
                <a:tab algn="l" pos="1841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7920" y="372600"/>
            <a:ext cx="703440" cy="105732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9360" bIns="936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2160"/>
                <a:tab algn="l" pos="184320"/>
                <a:tab algn="l" pos="276120"/>
                <a:tab algn="l" pos="368280"/>
                <a:tab algn="l" pos="460440"/>
                <a:tab algn="l" pos="552600"/>
                <a:tab algn="l" pos="644400"/>
                <a:tab algn="l" pos="736560"/>
                <a:tab algn="l" pos="828720"/>
                <a:tab algn="l" pos="920880"/>
                <a:tab algn="l" pos="1012680"/>
                <a:tab algn="l" pos="1104840"/>
                <a:tab algn="l" pos="1197000"/>
                <a:tab algn="l" pos="1289160"/>
                <a:tab algn="l" pos="1380960"/>
                <a:tab algn="l" pos="1473120"/>
                <a:tab algn="l" pos="1565280"/>
                <a:tab algn="l" pos="1657440"/>
                <a:tab algn="l" pos="1749600"/>
                <a:tab algn="l" pos="1841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8840" y="924840"/>
            <a:ext cx="703440" cy="504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9360" bIns="936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2160"/>
                <a:tab algn="l" pos="184320"/>
                <a:tab algn="l" pos="276120"/>
                <a:tab algn="l" pos="368280"/>
                <a:tab algn="l" pos="460440"/>
                <a:tab algn="l" pos="552600"/>
                <a:tab algn="l" pos="644400"/>
                <a:tab algn="l" pos="736560"/>
                <a:tab algn="l" pos="828720"/>
                <a:tab algn="l" pos="920880"/>
                <a:tab algn="l" pos="1012680"/>
                <a:tab algn="l" pos="1104840"/>
                <a:tab algn="l" pos="1197000"/>
                <a:tab algn="l" pos="1289160"/>
                <a:tab algn="l" pos="1380960"/>
                <a:tab algn="l" pos="1473120"/>
                <a:tab algn="l" pos="1565280"/>
                <a:tab algn="l" pos="1657440"/>
                <a:tab algn="l" pos="1749600"/>
                <a:tab algn="l" pos="1841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595A-5C12-46A1-AB96-91A93D12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1441800" cy="2685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9360" bIns="9360" anchor="ctr">
            <a:noAutofit/>
          </a:bodyPr>
          <a:p>
            <a:pPr indent="0" algn="ctr">
              <a:buNone/>
              <a:tabLst>
                <a:tab algn="l" pos="0"/>
                <a:tab algn="l" pos="92160"/>
                <a:tab algn="l" pos="184320"/>
                <a:tab algn="l" pos="276120"/>
                <a:tab algn="l" pos="368280"/>
                <a:tab algn="l" pos="460440"/>
                <a:tab algn="l" pos="552600"/>
                <a:tab algn="l" pos="644400"/>
                <a:tab algn="l" pos="736560"/>
                <a:tab algn="l" pos="828720"/>
                <a:tab algn="l" pos="920880"/>
                <a:tab algn="l" pos="1012680"/>
                <a:tab algn="l" pos="1104840"/>
                <a:tab algn="l" pos="1197000"/>
                <a:tab algn="l" pos="1289160"/>
                <a:tab algn="l" pos="1380960"/>
                <a:tab algn="l" pos="1473120"/>
                <a:tab algn="l" pos="1565280"/>
                <a:tab algn="l" pos="1657440"/>
                <a:tab algn="l" pos="1749600"/>
                <a:tab algn="l" pos="1841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8840" y="372600"/>
            <a:ext cx="703440" cy="105732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9360" bIns="936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2160"/>
                <a:tab algn="l" pos="184320"/>
                <a:tab algn="l" pos="276120"/>
                <a:tab algn="l" pos="368280"/>
                <a:tab algn="l" pos="460440"/>
                <a:tab algn="l" pos="552600"/>
                <a:tab algn="l" pos="644400"/>
                <a:tab algn="l" pos="736560"/>
                <a:tab algn="l" pos="828720"/>
                <a:tab algn="l" pos="920880"/>
                <a:tab algn="l" pos="1012680"/>
                <a:tab algn="l" pos="1104840"/>
                <a:tab algn="l" pos="1197000"/>
                <a:tab algn="l" pos="1289160"/>
                <a:tab algn="l" pos="1380960"/>
                <a:tab algn="l" pos="1473120"/>
                <a:tab algn="l" pos="1565280"/>
                <a:tab algn="l" pos="1657440"/>
                <a:tab algn="l" pos="1749600"/>
                <a:tab algn="l" pos="1841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7920" y="372600"/>
            <a:ext cx="703440" cy="504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9360" bIns="936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2160"/>
                <a:tab algn="l" pos="184320"/>
                <a:tab algn="l" pos="276120"/>
                <a:tab algn="l" pos="368280"/>
                <a:tab algn="l" pos="460440"/>
                <a:tab algn="l" pos="552600"/>
                <a:tab algn="l" pos="644400"/>
                <a:tab algn="l" pos="736560"/>
                <a:tab algn="l" pos="828720"/>
                <a:tab algn="l" pos="920880"/>
                <a:tab algn="l" pos="1012680"/>
                <a:tab algn="l" pos="1104840"/>
                <a:tab algn="l" pos="1197000"/>
                <a:tab algn="l" pos="1289160"/>
                <a:tab algn="l" pos="1380960"/>
                <a:tab algn="l" pos="1473120"/>
                <a:tab algn="l" pos="1565280"/>
                <a:tab algn="l" pos="1657440"/>
                <a:tab algn="l" pos="1749600"/>
                <a:tab algn="l" pos="1841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7920" y="924840"/>
            <a:ext cx="703440" cy="504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9360" bIns="936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2160"/>
                <a:tab algn="l" pos="184320"/>
                <a:tab algn="l" pos="276120"/>
                <a:tab algn="l" pos="368280"/>
                <a:tab algn="l" pos="460440"/>
                <a:tab algn="l" pos="552600"/>
                <a:tab algn="l" pos="644400"/>
                <a:tab algn="l" pos="736560"/>
                <a:tab algn="l" pos="828720"/>
                <a:tab algn="l" pos="920880"/>
                <a:tab algn="l" pos="1012680"/>
                <a:tab algn="l" pos="1104840"/>
                <a:tab algn="l" pos="1197000"/>
                <a:tab algn="l" pos="1289160"/>
                <a:tab algn="l" pos="1380960"/>
                <a:tab algn="l" pos="1473120"/>
                <a:tab algn="l" pos="1565280"/>
                <a:tab algn="l" pos="1657440"/>
                <a:tab algn="l" pos="1749600"/>
                <a:tab algn="l" pos="1841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8E95-C9FA-4964-8650-3A583A5D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1441800" cy="2685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9360" bIns="9360" anchor="ctr">
            <a:noAutofit/>
          </a:bodyPr>
          <a:p>
            <a:pPr indent="0" algn="ctr">
              <a:buNone/>
              <a:tabLst>
                <a:tab algn="l" pos="0"/>
                <a:tab algn="l" pos="92160"/>
                <a:tab algn="l" pos="184320"/>
                <a:tab algn="l" pos="276120"/>
                <a:tab algn="l" pos="368280"/>
                <a:tab algn="l" pos="460440"/>
                <a:tab algn="l" pos="552600"/>
                <a:tab algn="l" pos="644400"/>
                <a:tab algn="l" pos="736560"/>
                <a:tab algn="l" pos="828720"/>
                <a:tab algn="l" pos="920880"/>
                <a:tab algn="l" pos="1012680"/>
                <a:tab algn="l" pos="1104840"/>
                <a:tab algn="l" pos="1197000"/>
                <a:tab algn="l" pos="1289160"/>
                <a:tab algn="l" pos="1380960"/>
                <a:tab algn="l" pos="1473120"/>
                <a:tab algn="l" pos="1565280"/>
                <a:tab algn="l" pos="1657440"/>
                <a:tab algn="l" pos="1749600"/>
                <a:tab algn="l" pos="1841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8840" y="372600"/>
            <a:ext cx="703440" cy="504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9360" bIns="936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2160"/>
                <a:tab algn="l" pos="184320"/>
                <a:tab algn="l" pos="276120"/>
                <a:tab algn="l" pos="368280"/>
                <a:tab algn="l" pos="460440"/>
                <a:tab algn="l" pos="552600"/>
                <a:tab algn="l" pos="644400"/>
                <a:tab algn="l" pos="736560"/>
                <a:tab algn="l" pos="828720"/>
                <a:tab algn="l" pos="920880"/>
                <a:tab algn="l" pos="1012680"/>
                <a:tab algn="l" pos="1104840"/>
                <a:tab algn="l" pos="1197000"/>
                <a:tab algn="l" pos="1289160"/>
                <a:tab algn="l" pos="1380960"/>
                <a:tab algn="l" pos="1473120"/>
                <a:tab algn="l" pos="1565280"/>
                <a:tab algn="l" pos="1657440"/>
                <a:tab algn="l" pos="1749600"/>
                <a:tab algn="l" pos="1841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7920" y="372600"/>
            <a:ext cx="703440" cy="504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9360" bIns="936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2160"/>
                <a:tab algn="l" pos="184320"/>
                <a:tab algn="l" pos="276120"/>
                <a:tab algn="l" pos="368280"/>
                <a:tab algn="l" pos="460440"/>
                <a:tab algn="l" pos="552600"/>
                <a:tab algn="l" pos="644400"/>
                <a:tab algn="l" pos="736560"/>
                <a:tab algn="l" pos="828720"/>
                <a:tab algn="l" pos="920880"/>
                <a:tab algn="l" pos="1012680"/>
                <a:tab algn="l" pos="1104840"/>
                <a:tab algn="l" pos="1197000"/>
                <a:tab algn="l" pos="1289160"/>
                <a:tab algn="l" pos="1380960"/>
                <a:tab algn="l" pos="1473120"/>
                <a:tab algn="l" pos="1565280"/>
                <a:tab algn="l" pos="1657440"/>
                <a:tab algn="l" pos="1749600"/>
                <a:tab algn="l" pos="1841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8840" y="924840"/>
            <a:ext cx="1441800" cy="504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9360" bIns="936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2160"/>
                <a:tab algn="l" pos="184320"/>
                <a:tab algn="l" pos="276120"/>
                <a:tab algn="l" pos="368280"/>
                <a:tab algn="l" pos="460440"/>
                <a:tab algn="l" pos="552600"/>
                <a:tab algn="l" pos="644400"/>
                <a:tab algn="l" pos="736560"/>
                <a:tab algn="l" pos="828720"/>
                <a:tab algn="l" pos="920880"/>
                <a:tab algn="l" pos="1012680"/>
                <a:tab algn="l" pos="1104840"/>
                <a:tab algn="l" pos="1197000"/>
                <a:tab algn="l" pos="1289160"/>
                <a:tab algn="l" pos="1380960"/>
                <a:tab algn="l" pos="1473120"/>
                <a:tab algn="l" pos="1565280"/>
                <a:tab algn="l" pos="1657440"/>
                <a:tab algn="l" pos="1749600"/>
                <a:tab algn="l" pos="1841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84B7-2AD8-459D-A69D-8353712B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1441800" cy="2685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9360" bIns="9360" anchor="ctr">
            <a:noAutofit/>
          </a:bodyPr>
          <a:p>
            <a:pPr indent="0" algn="ctr">
              <a:buNone/>
              <a:tabLst>
                <a:tab algn="l" pos="0"/>
                <a:tab algn="l" pos="92160"/>
                <a:tab algn="l" pos="184320"/>
                <a:tab algn="l" pos="276120"/>
                <a:tab algn="l" pos="368280"/>
                <a:tab algn="l" pos="460440"/>
                <a:tab algn="l" pos="552600"/>
                <a:tab algn="l" pos="644400"/>
                <a:tab algn="l" pos="736560"/>
                <a:tab algn="l" pos="828720"/>
                <a:tab algn="l" pos="920880"/>
                <a:tab algn="l" pos="1012680"/>
                <a:tab algn="l" pos="1104840"/>
                <a:tab algn="l" pos="1197000"/>
                <a:tab algn="l" pos="1289160"/>
                <a:tab algn="l" pos="1380960"/>
                <a:tab algn="l" pos="1473120"/>
                <a:tab algn="l" pos="1565280"/>
                <a:tab algn="l" pos="1657440"/>
                <a:tab algn="l" pos="1749600"/>
                <a:tab algn="l" pos="1841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8840" y="372600"/>
            <a:ext cx="1441800" cy="105732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9360" bIns="9360" anchor="t">
            <a:normAutofit/>
          </a:bodyPr>
          <a:p>
            <a:pPr marL="68400" indent="-6840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2160"/>
                <a:tab algn="l" pos="184320"/>
                <a:tab algn="l" pos="276120"/>
                <a:tab algn="l" pos="368280"/>
                <a:tab algn="l" pos="460440"/>
                <a:tab algn="l" pos="552600"/>
                <a:tab algn="l" pos="644400"/>
                <a:tab algn="l" pos="736560"/>
                <a:tab algn="l" pos="828720"/>
                <a:tab algn="l" pos="920880"/>
                <a:tab algn="l" pos="1012680"/>
                <a:tab algn="l" pos="1104840"/>
                <a:tab algn="l" pos="1197000"/>
                <a:tab algn="l" pos="1289160"/>
                <a:tab algn="l" pos="1380960"/>
                <a:tab algn="l" pos="1473120"/>
                <a:tab algn="l" pos="1565280"/>
                <a:tab algn="l" pos="1657440"/>
                <a:tab algn="l" pos="1749600"/>
                <a:tab algn="l" pos="1841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1" marL="149400" indent="-57240">
              <a:spcBef>
                <a:spcPts val="150"/>
              </a:spcBef>
              <a:buClr>
                <a:srgbClr val="000000"/>
              </a:buClr>
              <a:buFont typeface="Arial"/>
              <a:buChar char="–"/>
              <a:tabLst>
                <a:tab algn="l" pos="92160"/>
                <a:tab algn="l" pos="184320"/>
                <a:tab algn="l" pos="276120"/>
                <a:tab algn="l" pos="368280"/>
                <a:tab algn="l" pos="460440"/>
                <a:tab algn="l" pos="552600"/>
                <a:tab algn="l" pos="644400"/>
                <a:tab algn="l" pos="736560"/>
                <a:tab algn="l" pos="828720"/>
                <a:tab algn="l" pos="920880"/>
                <a:tab algn="l" pos="1012680"/>
                <a:tab algn="l" pos="1104840"/>
                <a:tab algn="l" pos="1197000"/>
                <a:tab algn="l" pos="1289160"/>
                <a:tab algn="l" pos="1380960"/>
                <a:tab algn="l" pos="1473120"/>
                <a:tab algn="l" pos="1565280"/>
                <a:tab algn="l" pos="1657440"/>
                <a:tab algn="l" pos="1749600"/>
                <a:tab algn="l" pos="1841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2" marL="228600" indent="-4428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2160"/>
                <a:tab algn="l" pos="184320"/>
                <a:tab algn="l" pos="276120"/>
                <a:tab algn="l" pos="368280"/>
                <a:tab algn="l" pos="460440"/>
                <a:tab algn="l" pos="552600"/>
                <a:tab algn="l" pos="644400"/>
                <a:tab algn="l" pos="736560"/>
                <a:tab algn="l" pos="828720"/>
                <a:tab algn="l" pos="920880"/>
                <a:tab algn="l" pos="1012680"/>
                <a:tab algn="l" pos="1104840"/>
                <a:tab algn="l" pos="1197000"/>
                <a:tab algn="l" pos="1289160"/>
                <a:tab algn="l" pos="1380960"/>
                <a:tab algn="l" pos="1473120"/>
                <a:tab algn="l" pos="1565280"/>
                <a:tab algn="l" pos="1657440"/>
                <a:tab algn="l" pos="1749600"/>
                <a:tab algn="l" pos="1841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3" marL="322200" indent="-44280">
              <a:spcBef>
                <a:spcPts val="150"/>
              </a:spcBef>
              <a:buClr>
                <a:srgbClr val="000000"/>
              </a:buClr>
              <a:buFont typeface="Arial"/>
              <a:buChar char="–"/>
              <a:tabLst>
                <a:tab algn="l" pos="92160"/>
                <a:tab algn="l" pos="184320"/>
                <a:tab algn="l" pos="276120"/>
                <a:tab algn="l" pos="368280"/>
                <a:tab algn="l" pos="460440"/>
                <a:tab algn="l" pos="552600"/>
                <a:tab algn="l" pos="644400"/>
                <a:tab algn="l" pos="736560"/>
                <a:tab algn="l" pos="828720"/>
                <a:tab algn="l" pos="920880"/>
                <a:tab algn="l" pos="1012680"/>
                <a:tab algn="l" pos="1104840"/>
                <a:tab algn="l" pos="1197000"/>
                <a:tab algn="l" pos="1289160"/>
                <a:tab algn="l" pos="1380960"/>
                <a:tab algn="l" pos="1473120"/>
                <a:tab algn="l" pos="1565280"/>
                <a:tab algn="l" pos="1657440"/>
                <a:tab algn="l" pos="1749600"/>
                <a:tab algn="l" pos="1841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4" marL="415800" indent="-44280">
              <a:spcBef>
                <a:spcPts val="150"/>
              </a:spcBef>
              <a:buClr>
                <a:srgbClr val="000000"/>
              </a:buClr>
              <a:buFont typeface="Arial"/>
              <a:buChar char="»"/>
              <a:tabLst>
                <a:tab algn="l" pos="92160"/>
                <a:tab algn="l" pos="184320"/>
                <a:tab algn="l" pos="276120"/>
                <a:tab algn="l" pos="368280"/>
                <a:tab algn="l" pos="460440"/>
                <a:tab algn="l" pos="552600"/>
                <a:tab algn="l" pos="644400"/>
                <a:tab algn="l" pos="736560"/>
                <a:tab algn="l" pos="828720"/>
                <a:tab algn="l" pos="920880"/>
                <a:tab algn="l" pos="1012680"/>
                <a:tab algn="l" pos="1104840"/>
                <a:tab algn="l" pos="1197000"/>
                <a:tab algn="l" pos="1289160"/>
                <a:tab algn="l" pos="1380960"/>
                <a:tab algn="l" pos="1473120"/>
                <a:tab algn="l" pos="1565280"/>
                <a:tab algn="l" pos="1657440"/>
                <a:tab algn="l" pos="1749600"/>
                <a:tab algn="l" pos="1841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5" marL="415800" indent="-44280">
              <a:spcBef>
                <a:spcPts val="150"/>
              </a:spcBef>
              <a:buClr>
                <a:srgbClr val="000000"/>
              </a:buClr>
              <a:buFont typeface="Arial"/>
              <a:buChar char="»"/>
              <a:tabLst>
                <a:tab algn="l" pos="92160"/>
                <a:tab algn="l" pos="184320"/>
                <a:tab algn="l" pos="276120"/>
                <a:tab algn="l" pos="368280"/>
                <a:tab algn="l" pos="460440"/>
                <a:tab algn="l" pos="552600"/>
                <a:tab algn="l" pos="644400"/>
                <a:tab algn="l" pos="736560"/>
                <a:tab algn="l" pos="828720"/>
                <a:tab algn="l" pos="920880"/>
                <a:tab algn="l" pos="1012680"/>
                <a:tab algn="l" pos="1104840"/>
                <a:tab algn="l" pos="1197000"/>
                <a:tab algn="l" pos="1289160"/>
                <a:tab algn="l" pos="1380960"/>
                <a:tab algn="l" pos="1473120"/>
                <a:tab algn="l" pos="1565280"/>
                <a:tab algn="l" pos="1657440"/>
                <a:tab algn="l" pos="1749600"/>
                <a:tab algn="l" pos="1841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6" marL="415800" indent="-44280">
              <a:spcBef>
                <a:spcPts val="150"/>
              </a:spcBef>
              <a:buClr>
                <a:srgbClr val="000000"/>
              </a:buClr>
              <a:buFont typeface="Arial"/>
              <a:buChar char="»"/>
              <a:tabLst>
                <a:tab algn="l" pos="92160"/>
                <a:tab algn="l" pos="184320"/>
                <a:tab algn="l" pos="276120"/>
                <a:tab algn="l" pos="368280"/>
                <a:tab algn="l" pos="460440"/>
                <a:tab algn="l" pos="552600"/>
                <a:tab algn="l" pos="644400"/>
                <a:tab algn="l" pos="736560"/>
                <a:tab algn="l" pos="828720"/>
                <a:tab algn="l" pos="920880"/>
                <a:tab algn="l" pos="1012680"/>
                <a:tab algn="l" pos="1104840"/>
                <a:tab algn="l" pos="1197000"/>
                <a:tab algn="l" pos="1289160"/>
                <a:tab algn="l" pos="1380960"/>
                <a:tab algn="l" pos="1473120"/>
                <a:tab algn="l" pos="1565280"/>
                <a:tab algn="l" pos="1657440"/>
                <a:tab algn="l" pos="1749600"/>
                <a:tab algn="l" pos="1841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8840" y="1483920"/>
            <a:ext cx="374760" cy="824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9360" bIns="9360" anchor="ctr">
            <a:noAutofit/>
          </a:bodyPr>
          <a:lstStyle>
            <a:lvl1pPr indent="0">
              <a:buNone/>
              <a:tabLst>
                <a:tab algn="l" pos="0"/>
                <a:tab algn="l" pos="92160"/>
                <a:tab algn="l" pos="184320"/>
                <a:tab algn="l" pos="276120"/>
                <a:tab algn="l" pos="368280"/>
                <a:tab algn="l" pos="460440"/>
                <a:tab algn="l" pos="552600"/>
                <a:tab algn="l" pos="644400"/>
                <a:tab algn="l" pos="736560"/>
                <a:tab algn="l" pos="828720"/>
                <a:tab algn="l" pos="920880"/>
                <a:tab algn="l" pos="1012680"/>
                <a:tab algn="l" pos="1104840"/>
                <a:tab algn="l" pos="1197000"/>
                <a:tab algn="l" pos="1289160"/>
                <a:tab algn="l" pos="1380960"/>
                <a:tab algn="l" pos="1473120"/>
                <a:tab algn="l" pos="1565280"/>
                <a:tab algn="l" pos="1657440"/>
                <a:tab algn="l" pos="1749600"/>
                <a:tab algn="l" pos="1841400"/>
              </a:tabLst>
              <a:defRPr b="0" lang="en-US" sz="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2160"/>
                <a:tab algn="l" pos="184320"/>
                <a:tab algn="l" pos="276120"/>
                <a:tab algn="l" pos="368280"/>
                <a:tab algn="l" pos="460440"/>
                <a:tab algn="l" pos="552600"/>
                <a:tab algn="l" pos="644400"/>
                <a:tab algn="l" pos="736560"/>
                <a:tab algn="l" pos="828720"/>
                <a:tab algn="l" pos="920880"/>
                <a:tab algn="l" pos="1012680"/>
                <a:tab algn="l" pos="1104840"/>
                <a:tab algn="l" pos="1197000"/>
                <a:tab algn="l" pos="1289160"/>
                <a:tab algn="l" pos="1380960"/>
                <a:tab algn="l" pos="1473120"/>
                <a:tab algn="l" pos="1565280"/>
                <a:tab algn="l" pos="1657440"/>
                <a:tab algn="l" pos="1749600"/>
                <a:tab algn="l" pos="1841400"/>
              </a:tabLst>
            </a:pPr>
            <a:r>
              <a:rPr b="0" lang="en-US" sz="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5760" y="1483920"/>
            <a:ext cx="507960" cy="824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9360" bIns="9360" anchor="ctr">
            <a:noAutofit/>
          </a:bodyPr>
          <a:p>
            <a:pPr indent="0">
              <a:buNone/>
              <a:tabLst>
                <a:tab algn="l" pos="0"/>
                <a:tab algn="l" pos="92160"/>
                <a:tab algn="l" pos="184320"/>
                <a:tab algn="l" pos="276120"/>
                <a:tab algn="l" pos="368280"/>
                <a:tab algn="l" pos="460440"/>
                <a:tab algn="l" pos="552600"/>
                <a:tab algn="l" pos="644400"/>
                <a:tab algn="l" pos="736560"/>
                <a:tab algn="l" pos="828720"/>
                <a:tab algn="l" pos="920880"/>
                <a:tab algn="l" pos="1012680"/>
                <a:tab algn="l" pos="1104840"/>
                <a:tab algn="l" pos="1197000"/>
                <a:tab algn="l" pos="1289160"/>
                <a:tab algn="l" pos="1380960"/>
                <a:tab algn="l" pos="1473120"/>
                <a:tab algn="l" pos="1565280"/>
                <a:tab algn="l" pos="1657440"/>
                <a:tab algn="l" pos="1749600"/>
                <a:tab algn="l" pos="1841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45880" y="1483920"/>
            <a:ext cx="374760" cy="824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9360" bIns="9360" anchor="ctr">
            <a:noAutofit/>
          </a:bodyPr>
          <a:lstStyle>
            <a:lvl1pPr indent="0" algn="r">
              <a:buNone/>
              <a:tabLst>
                <a:tab algn="l" pos="0"/>
                <a:tab algn="l" pos="92160"/>
                <a:tab algn="l" pos="184320"/>
                <a:tab algn="l" pos="276120"/>
                <a:tab algn="l" pos="368280"/>
                <a:tab algn="l" pos="460440"/>
                <a:tab algn="l" pos="552600"/>
                <a:tab algn="l" pos="644400"/>
                <a:tab algn="l" pos="736560"/>
                <a:tab algn="l" pos="828720"/>
                <a:tab algn="l" pos="920880"/>
                <a:tab algn="l" pos="1012680"/>
                <a:tab algn="l" pos="1104840"/>
                <a:tab algn="l" pos="1197000"/>
                <a:tab algn="l" pos="1289160"/>
                <a:tab algn="l" pos="1380960"/>
                <a:tab algn="l" pos="1473120"/>
                <a:tab algn="l" pos="1565280"/>
                <a:tab algn="l" pos="1657440"/>
                <a:tab algn="l" pos="1749600"/>
                <a:tab algn="l" pos="1841400"/>
              </a:tabLst>
              <a:defRPr b="0" lang="en-US" sz="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2160"/>
                <a:tab algn="l" pos="184320"/>
                <a:tab algn="l" pos="276120"/>
                <a:tab algn="l" pos="368280"/>
                <a:tab algn="l" pos="460440"/>
                <a:tab algn="l" pos="552600"/>
                <a:tab algn="l" pos="644400"/>
                <a:tab algn="l" pos="736560"/>
                <a:tab algn="l" pos="828720"/>
                <a:tab algn="l" pos="920880"/>
                <a:tab algn="l" pos="1012680"/>
                <a:tab algn="l" pos="1104840"/>
                <a:tab algn="l" pos="1197000"/>
                <a:tab algn="l" pos="1289160"/>
                <a:tab algn="l" pos="1380960"/>
                <a:tab algn="l" pos="1473120"/>
                <a:tab algn="l" pos="1565280"/>
                <a:tab algn="l" pos="1657440"/>
                <a:tab algn="l" pos="1749600"/>
                <a:tab algn="l" pos="1841400"/>
              </a:tabLst>
            </a:pPr>
            <a:fld id="{7DEF4BD7-5687-46D8-BCCC-951237BA2B64}" type="slidenum">
              <a:rPr b="0" lang="en-US" sz="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1441800" cy="201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9360" bIns="9360" anchor="ctr">
            <a:noAutofit/>
          </a:bodyPr>
          <a:p>
            <a:pPr indent="0" algn="ctr">
              <a:buNone/>
              <a:tabLst>
                <a:tab algn="l" pos="0"/>
                <a:tab algn="l" pos="92160"/>
                <a:tab algn="l" pos="184320"/>
                <a:tab algn="l" pos="276120"/>
                <a:tab algn="l" pos="368280"/>
                <a:tab algn="l" pos="460440"/>
                <a:tab algn="l" pos="552600"/>
                <a:tab algn="l" pos="644400"/>
                <a:tab algn="l" pos="736560"/>
                <a:tab algn="l" pos="828720"/>
                <a:tab algn="l" pos="920880"/>
                <a:tab algn="l" pos="1012680"/>
                <a:tab algn="l" pos="1104840"/>
                <a:tab algn="l" pos="1197000"/>
                <a:tab algn="l" pos="1289160"/>
                <a:tab algn="l" pos="1380960"/>
                <a:tab algn="l" pos="1473120"/>
                <a:tab algn="l" pos="1565280"/>
                <a:tab algn="l" pos="1657440"/>
                <a:tab algn="l" pos="1749600"/>
                <a:tab algn="l" pos="1841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How To Use This Templat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0" y="174600"/>
            <a:ext cx="1619280" cy="15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The blank slide below will be your canvas for creating your very own square logo! The slide has already been sized to work with LinkedIn’s dimensions (in this case, 50 x 50 px). Note: PowerPoint  doesn’t allow you create slides that small, so this template is actually a little bit larger (but still has the proper dimensions!)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"/>
              </a:spcBef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"/>
              </a:spcBef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To customize this slide, you can incorporate images by using “insert picture” or “insert shape” and produce your own graphics.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"/>
              </a:spcBef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"/>
              </a:spcBef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Once you’re done, simply go to File </a:t>
            </a:r>
            <a:r>
              <a:rPr b="0" lang="en-US" sz="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 Save as Pictures. This will automatically save your slide as a picture, and you can upload it as your square logo on LinkedIn. Easy peasy </a:t>
            </a:r>
            <a:r>
              <a:rPr b="0" lang="en-US" sz="5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2T19:08:35Z</dcterms:created>
  <dc:creator>Demond Wong</dc:creator>
  <dc:description/>
  <dc:language>en-US</dc:language>
  <cp:lastModifiedBy>Erik Devaney</cp:lastModifiedBy>
  <dcterms:modified xsi:type="dcterms:W3CDTF">2014-02-18T16:13:30Z</dcterms:modified>
  <cp:revision>12</cp:revision>
  <dc:subject/>
  <dc:title>PowerPoint Presentation</dc:title>
</cp:coreProperties>
</file>